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ftr" idx="2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 type="sldNum" idx="2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07D384-392D-4850-A292-1CC8C467253C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0552C9-065A-40C2-A26C-52E019EBA37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488AB4-0740-43EA-840B-C0118CE699F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B7B234-1051-4770-B935-3F05AF925EC2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856156-6D3A-47E5-9A12-B04D207A8AC2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B92342-B859-46FA-9C79-171B2446570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FCE1CF-D7A5-46EE-854B-F6F0629D35C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70D436-5601-472A-AAAE-435E2BF9D53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CA3EA5-5BA7-4D92-A90B-F1599E564502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A1A2-1750-41B9-96B2-D88905CC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594-6D02-49D1-BCE6-5C91141E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954-A523-4993-8221-59E6EA66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F56-30AB-4E7C-80D5-D733A56B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8FCC-A249-4717-8E28-748B10BB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FA82-93EE-4BBE-A07A-77776E40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505D-FB1A-4B41-ABA7-4704D715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EF1D-A2BF-4D91-B17A-BC75DAE9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23C9-8781-421F-8E2A-79E465ED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1A86-7784-42DD-8D32-76E3D99C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BFA0-B5E9-44DA-9F74-4EAFC435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343-8FB0-44F1-9142-36F16166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A9A7-CDDE-4465-9315-6CBABE38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C4EA-E418-45CC-990E-19072E90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C850-D099-42D2-A1EE-8A55EC31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736B-160E-47ED-932C-79A21221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1525-2624-4D77-B23F-A2DF8F3A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502EC-E4AA-4703-B532-8F82B03F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6F811-44FB-463F-833F-B9ABDC91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AC32C-D65E-4A73-80E8-B9DE1475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B0324-984E-4801-B3D3-A93EB638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749A9-2EEC-4128-BB6C-0AAC7782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FDD-C282-46B4-BE84-1DB667A7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74C14-D3F1-4B85-B1DE-9ADC7201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6B920-2BCB-460F-AD0A-C590E4D2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01BB2-1C9E-4691-8A6D-F03F7462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01900-E52E-4475-8862-C1D7C5AD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A8847-8E90-4009-A462-774F98E5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A19FF-9639-481C-96CC-4B2D55B9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E421B-EAEC-43E4-8BFD-865DB990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4B0B3-E6AD-4209-9726-601C0E10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13C79-D56F-4E94-A87B-CF009E14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B321D-A600-488F-A072-BECFB5B5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2DAB-5E3B-490B-997F-EA3CA7C6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45540-1C98-417B-9456-74DCBA95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F10E6-63CF-47FB-8050-8550833F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BF7E8-F64E-4443-B378-B83A5939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C511F-5D8D-4F52-BC92-2D516279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D7F5D-7105-40C7-B7F3-F896EB69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ECCC5-6A6A-40A1-AF80-C3903EB4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CE4DF-DED7-4059-B998-F08E92E1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AD03A-DC90-408C-826C-5CA636E1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D58BA-8603-493F-96EA-48465833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EF427-BDC2-40B2-9985-C2BC8318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8B67-F52E-47C4-B912-DC77B424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594AD-B820-48CF-BB12-18771D5A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CA95D-B3B6-499D-8131-F5842332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051BB-C7EA-4CAA-BB28-3EAC2531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B23EE-81B4-48A0-9FCC-AE2318C7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BCCF0-D549-40F4-B0E9-638835D6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75C59-2978-4081-AFDB-A667AE38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83D16-BBEF-4F24-B7A1-0204A69F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62D8A-DEC3-4123-91FE-15842D66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4980D-CBE2-443F-B948-C4C980C2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39FBA-D6F0-49FF-B6A4-5A14203F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1D2-D673-4BE2-AF26-AF6DEF45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147D0-C0BB-4A2A-8A9E-176FC6BC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48C40-F951-4D76-80F0-0139FC84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E6195-71AD-41DC-A16A-9D9B6951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D4F36-6DA0-4DCE-8F16-2F8333FC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D89FD-779B-41C7-9827-65108196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76121-3C88-4378-A626-15C51ADB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BE9C2-8358-46AD-BCDA-FD5E4983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B5347-D770-474C-A343-20547168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ADBBD-7CA5-4507-902C-FC4CEE78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B08FF-046D-4441-84DE-452D5FFA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49B-DA38-48DE-912F-2C8FF974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B13AA-7A12-45A7-AE67-DDD8C439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218D7-4077-44A4-9372-EADF1789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F5E5E-58EB-4F06-9130-5F47B0E6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6FFAB-0839-4733-AAC6-36B044B1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A94CD-DE63-4258-A35C-4EC218B9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B289E-CC38-41E8-966D-39AB5698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EA908-C3C1-4F6F-97A1-4294E4D8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A318D-940F-47AD-9A8C-E7F8E98D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2EA10-51F1-479C-BD1A-3AF1CC4E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32329-2492-4D75-A2A5-E0CE3923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57F1-39C1-4699-B44C-6519DF28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58C17-5B7D-4D06-87AC-DA449923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A1632-5A27-4F9F-97E4-3F36AAF8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2955A-1D6C-43DF-AB63-8E14AF27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DB22E-7A0C-455F-89DF-11F2A783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A64B0-0453-484B-9D80-DE25DF43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5071C-822D-4113-B196-236F3AE0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CD37A-A943-4AF2-8FF6-0208215A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95A0E-846A-4009-A56C-4460CB63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7E171-C239-4199-A2A8-46BF8BA9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BFC85-6A49-4574-987B-3562A83B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F9BF-3700-4B3A-9D78-D43EC827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97A04-2317-45A3-A20A-BFF112D7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37F4B-9572-4516-9720-AE03E090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FA66F-B0F4-426C-97CA-31551D8E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A7CB2-1A0A-48C5-B8F9-1C9190D6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755FC-D329-487F-A8C5-083095C7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C7E52-2B93-4FEE-ADBD-0F376A8B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C6AD7-7B3F-4AAB-AAD2-2BC26AD4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B829-B48B-4E93-A26E-8915BFAE9647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" name="Object 2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179280" y="115920"/>
          <a:ext cx="952560" cy="11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9525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E3B3-EDAB-48EA-98D5-FF7F2044EE83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3394-AF9F-4F5B-BCDD-E8C32A065A5C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DD6B-955E-484C-9FFB-C9AF5426CDDE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816D-696D-4D59-A68C-9E4AA4158C4A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E5A3-2A79-4480-AF09-CB9CEF62A59B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84BE-AFB1-4C9F-878D-6F927BFAEEC7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C072-FED5-4147-A2DB-B27C140F4577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dvanced Topics in Business Process Manage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Barbara Re, Ph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332000" y="436572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ocu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3" name="Segnaposto contenuto 4" descr=""/>
          <p:cNvPicPr/>
          <p:nvPr/>
        </p:nvPicPr>
        <p:blipFill>
          <a:blip r:embed="rId1"/>
          <a:stretch/>
        </p:blipFill>
        <p:spPr>
          <a:xfrm>
            <a:off x="1481040" y="2060640"/>
            <a:ext cx="5973840" cy="3736800"/>
          </a:xfrm>
          <a:prstGeom prst="rect">
            <a:avLst/>
          </a:prstGeom>
          <a:ln w="0">
            <a:noFill/>
          </a:ln>
        </p:spPr>
      </p:pic>
      <p:sp>
        <p:nvSpPr>
          <p:cNvPr id="394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EDEB-3301-4DC0-8504-BF92CB3C7F1C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ttangolo 7"/>
          <p:cNvSpPr/>
          <p:nvPr/>
        </p:nvSpPr>
        <p:spPr>
          <a:xfrm>
            <a:off x="684360" y="1413000"/>
            <a:ext cx="82803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fferent educational background and interests are in pl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Rettangolo 11"/>
          <p:cNvSpPr/>
          <p:nvPr/>
        </p:nvSpPr>
        <p:spPr>
          <a:xfrm>
            <a:off x="6084720" y="1989000"/>
            <a:ext cx="288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nsider information technology as a subordinate aspect in business process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Rettangolo 12"/>
          <p:cNvSpPr/>
          <p:nvPr/>
        </p:nvSpPr>
        <p:spPr>
          <a:xfrm>
            <a:off x="324000" y="5445000"/>
            <a:ext cx="3527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nsider business goal and organizational regulations as terms that do not deserve much thought, but require the appropriate level o abst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yllabu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219320"/>
            <a:ext cx="822960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Introduction to Business Process Managemen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Evolution of Enterprise Systems Architecture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Business Process and Business Process Model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Business Process Life-Cycle.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Flexibility Issues in Process-Aware Information System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Perspectives on a Process-Aware Information System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Pre-speciﬁed and Repetitive Processes and Knowledge-Intensive Processe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Variability, Looseness, Adaptation, Evolution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Process Modelling &amp; Flexibility-by-Design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Business Process Modelling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Conceptual models and abstraction mechanisms. 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Petri nets. Workflow nets and workflow modules. Workflow patterns. Event-driven Process Chains (EPC). </a:t>
            </a:r>
            <a:r>
              <a:rPr b="1" lang="en-GB" sz="1400" spc="-1" strike="noStrike">
                <a:solidFill>
                  <a:srgbClr val="464653"/>
                </a:solidFill>
                <a:latin typeface="Gill Sans MT"/>
              </a:rPr>
              <a:t>Business Process Modelling Notation 2.0 (BPMN)</a:t>
            </a: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. Yet Another Workflow Language (YAWL). Related Extension to support flexibility.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Analysing the Behaviour of Process Model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Verifying Pre-speciﬁed Process Model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Ensuring Correctness of Conﬁgured Process Variant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Unfolding technique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40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7F6D-CC63-4220-A9DB-C3A6E119BAC0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Reference Textbook (I)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219320"/>
            <a:ext cx="51944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usiness Process Management. Concepts, Languages, Architectures.  Weske, Mathias 2007, XIV, 368 p. 265 illus.. ISBN: 9780321155559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1 – Introduc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2 - Evolution of Enterprise Systems Architectur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4 – Process Orchestration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4.1 Control Flow Pattern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4.2 Petri Net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4.7 Business Process Modeling Notation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6 – Properties of Business Process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6.1 Data Dependencie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6.2 Structural Soundnes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6.3 Soundness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6FFF-7545-4C33-9B46-F5FDEB6778AE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Immagine 1" descr="978-3-642-28615-5.png"/>
          <p:cNvPicPr/>
          <p:nvPr/>
        </p:nvPicPr>
        <p:blipFill>
          <a:blip r:embed="rId1"/>
          <a:stretch/>
        </p:blipFill>
        <p:spPr>
          <a:xfrm>
            <a:off x="5867280" y="1700280"/>
            <a:ext cx="2521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Reference Textbook (II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219320"/>
            <a:ext cx="54831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ichert, Manfred, and Barbara Weber. Enabling flexibility in process-aware information systems: challenges, methods, technologies. Springer, 2012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apter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1  Introduc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hapter 2  Process-Aware Information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 - Flexibility Issues in Process-Aware Information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hapter 4  Process Modeling and Flexibility-by-Design (already covered by Weske book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hapter 5 - Process Configuration Suppor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5.3 Structural Configuration Approaches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apter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10 - Business Process Complianc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E274-8B58-413F-937E-30432EE1EA21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Immagine 4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23367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Further materia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siness Process Model And Notation (BPMN) Version 2.0 - http://www.omg.org/spec/BPMN/2.0/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PMN 2.0 by example -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http://www.omg.org/spec/BPMN/20100601/10-06-02.pdf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ther lecture notes and research papers, selected during the course (some of them are already on the web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4BDF-AF74-42AA-BE46-C9BD7E030877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eaching and Learning Method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42 h - lecture and exercise session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Wednesday:  9:00 am </a:t>
            </a:r>
            <a:r>
              <a:rPr b="0" lang="it-IT" sz="23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11:00 a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Thursday:  9:00 am </a:t>
            </a:r>
            <a:r>
              <a:rPr b="0" lang="it-IT" sz="23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11:00 a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vate study: reading and explorin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B18D-6038-407B-89B7-C51561615A05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ome more info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relevant information is available </a:t>
            </a: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on-li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ttp://barbarare.wordpress.com/teaching/advanced-topic-in-business-process-management/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D7C8-35F6-45C0-8ED0-8E06260765B7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464653"/>
                </a:solidFill>
                <a:latin typeface="Bookman Old Style"/>
              </a:rPr>
              <a:t>Assess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Writing Examinatio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on the topics of the syllab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Open or multiple-choice questions + Exercis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2 h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ill Sans MT"/>
              </a:rPr>
              <a:t>Date</a:t>
            </a:r>
            <a:r>
              <a:rPr b="0" lang="it-IT" sz="2800" spc="-1" strike="noStrike">
                <a:solidFill>
                  <a:srgbClr val="000000"/>
                </a:solidFill>
                <a:latin typeface="Gill Sans MT"/>
              </a:rPr>
              <a:t> (https://didattica.unicam.it/Home.d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01/02/2016 14:00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01/10/2015 14:00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15/09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01/07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16/06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31/03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23/02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03/02/2015 14:00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1C6E-CFF0-43F1-A81F-70122CF19E8B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4A34-23D1-410E-9DF0-F226E8EADFE1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22" name="Object 2"/>
          <p:cNvGraphicFramePr/>
          <p:nvPr/>
        </p:nvGraphicFramePr>
        <p:xfrm>
          <a:off x="1371600" y="1752480"/>
          <a:ext cx="1857240" cy="39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185724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Text Box 3"/>
          <p:cNvSpPr/>
          <p:nvPr/>
        </p:nvSpPr>
        <p:spPr>
          <a:xfrm>
            <a:off x="3731760" y="320040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ectur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9" name="Segnaposto contenuto 4" descr="me1.jpg"/>
          <p:cNvPicPr/>
          <p:nvPr/>
        </p:nvPicPr>
        <p:blipFill>
          <a:blip r:embed="rId1"/>
          <a:srcRect l="0" t="4193" r="0" b="4193"/>
          <a:stretch/>
        </p:blipFill>
        <p:spPr>
          <a:xfrm>
            <a:off x="457200" y="1219320"/>
            <a:ext cx="4041720" cy="49370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632480" y="1216080"/>
            <a:ext cx="43322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Barbara Re, Ph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000000"/>
                </a:solidFill>
                <a:uFillTx/>
                <a:latin typeface="Gill Sans MT"/>
              </a:rPr>
              <a:t>Computer Science Divis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CS 11 (Battibocca Palac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barbara.re@unicam.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//barbarare.wordpress.com/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DE00-52E6-4CDD-B690-C1F10D39972D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Who I am?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7DFC-2671-40A0-87C7-E33612257E51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achelor and Master Degree in Computer Sci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hd in Information Science and Complex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Some Expirien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 was visiting Phd at the Information School of University of Washington working with Dr. Hans J (Jochen) Scho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 was visiting Phd at the School of Business of University of Applied Sciences Northwestern Swizerland FHNW working with Prof. Knut Hinkelman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Current Pos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ssistant Professor at University of Camerin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My Interes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6649-756F-4B21-A1D2-6B6EA0F1869B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siness Process Management: from modeling to analy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thodologies and technologies for Smart Government development and related services delive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rojects I’m involved i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arn PAd (Model-Based Social Learning for Public Administrations) EU FP7 ICT projec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CP (Open City Platform) MIUR projec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Ass (</a:t>
            </a:r>
            <a:r>
              <a:rPr b="0" lang="it-IT" sz="2800" spc="-1" strike="noStrike">
                <a:solidFill>
                  <a:srgbClr val="000000"/>
                </a:solidFill>
                <a:latin typeface="Gill Sans MT"/>
              </a:rPr>
              <a:t>Private Assisted House) Regione Marche projec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B013-55E9-43CD-9820-F0199DEF05B5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0920" y="297180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What about you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AE41-2401-403A-9A82-7331D41C0A0D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dvanced Topics in Business Process Manage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Barbara Re, Ph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332000" y="436572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ourse Objectiv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course focuses on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nterprise information systems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at are driven by models, i.e., instead of constructing code these systems are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assembled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configured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or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generated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using a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model-driven approa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We will focus on the so-called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 "process-aware" information systems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o better understand the impact of the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modelling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of business processes both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in static and dynamic environ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course introduces all relevant state-of-the-art concepts, methods and technologies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nabling process flexibility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, e.g., process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configuration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xception handling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ad-hoc process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hanges, process schema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C58B-469F-4456-A552-27482EF6E32E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Learning Outco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Understand the importance of Business Process and Business Process Manage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Gain some familiarity with business process terminolo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Know most common techniques of Business Process modelling and be familiar with Business Process Management tools with a particular emphasis on Business Process flexibil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pply Business Process Management into practical case stud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2EAF-B77C-4156-B992-FEA59A70E19C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7:18:36Z</dcterms:created>
  <dc:creator>Barbara Re</dc:creator>
  <dc:description/>
  <dc:language>en-US</dc:language>
  <cp:lastModifiedBy>Barbara Re</cp:lastModifiedBy>
  <cp:lastPrinted>2015-01-21T23:36:15Z</cp:lastPrinted>
  <dcterms:modified xsi:type="dcterms:W3CDTF">2015-01-21T23:36:35Z</dcterms:modified>
  <cp:revision>149</cp:revision>
  <dc:subject>Lezioni Laboratorio Informatico per i database turistici</dc:subject>
  <dc:title>Presentazione corso</dc:title>
</cp:coreProperties>
</file>